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FF5375-ECE3-4DCB-8013-51602E47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8BD37D-61EA-46E8-814B-E73D86AC22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n-demand assessment instruments will not include any assessment activities that could be classified as Level 4. However, standards, goals, and objectives can be stated in such a way as to expect students to perform extended thinking. “Develop generalizations of the results obtained and the strategies used and apply them to new problem situations,” is an example of a Grade 8 objective that is a Level 4. The extended time period is not a distinguishing factor if the required work is only repetitive and does not require applying significant conceptual understanding and higher-order thinking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D77ED9-EDC6-43BE-AC82-B7936FD044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n-demand assessment instruments will not include any assessment activities that could be classified as Level 4. However, standards, goals, and objectives can be stated in such a way as to expect students to perform extended thinking. “Develop generalizations of the results obtained and the strategies used and apply them to new problem situations,” is an example of a Grade 8 objective that is a Level 4. The extended time period is not a distinguishing factor if the required work is only repetitive and does not require applying significant conceptual understanding and higher-order thinking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ask. exemplifies a. results in an increase to. would represent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0F82FE-2757-41F2-8C29-C65D95C342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D08794-4D3C-48DC-87B4-E67B6C4C8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n El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B79B6E-83F0-4292-89ED-C76D54D6C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1 only requires students to demonstrate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sponse, use a well-known formula, follow a set procedure (like a recipe), or perform a clearly defined series of 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EF5527-0F28-4671-BB0A-0005EEB77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ent knowledge or process involved is more complex than in level 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, to compare data requires first identifying characteristics of the objects or phenomenon and then grouping or ordering th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D59A14-8F19-46FF-BFE2-2C7B6AECC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, represent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/contrast people, events, places,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46B460-A825-4324-84FA-A8537FDC6B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lexity does not result only from the fact that there could be multiple answers, a possibility for both Levels 1 and 2, but because the multi-step task requires In most instances, requiring students to explain their thinking is at Level 3; requiring a very simple explanation or a word or two should be at Level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0D0E94-2350-4D0A-809D-C2932CD499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, generalize, or connect ideas using supporting evidence from the text or from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08A-8D40-4BC6-8C06-46D26F76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565-D45F-4706-856C-AC2C492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95D-9DAE-4268-AFA5-FDBFA0FB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FCD-91FE-4884-9557-0907031C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D82CB-15B5-48B6-8909-A35A1A99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6E45-5613-4F77-87EE-0C192C9D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D8EB7-1030-4A03-9647-C2146330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D59A-CEC6-491D-85A0-C1B93B9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39599-6D73-4962-BFE8-DBB7E6B1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748CB-EA9E-4096-BEC2-9F4AE1EC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41AF5-1120-4642-83F8-052A79B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B4B-2B83-4AB3-B722-FF4682C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DEAF1-14CE-4577-9243-529CDF6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6823-1A34-462C-A967-BC9446C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E5C0-D659-4A47-9127-3AB3920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8190B-4152-470E-997E-69DB3510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300DB-D523-45E0-833B-D3A3A6FB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609-2CC5-4F8E-82FB-1E90C8C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B4B-B925-4F57-857D-CC0EAC81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16E-83DF-4F0F-B906-7B4ACFE5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AE7-C05B-4179-B8C7-250FE4F3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98D-5FE2-414D-8C18-7720F9BF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DEF-72D6-4DA0-AD57-101B102B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EBF-956A-4D74-9596-1D9B22C5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Template from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ADD8-E732-4522-9F5E-B344BED2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Template from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83C0-EC78-49EA-936A-5BF1BBE51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th of Knowledge (DO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ITI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B23-1E35-480B-B293-39B3B1C7D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3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scientific model for a complex i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e and evaluate solutions for an economic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, generalize or connect ideas, using supporting evidence from a text or 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dance that represents the characteristics of a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1EB7-18AD-4CCA-857C-FE1136A37A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8400" y="385560"/>
            <a:ext cx="7988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tended Thinking:  Level 4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67652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K 4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igh cognitive dem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is 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very comple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Students are expected to make  connections—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relate ideas </a:t>
            </a:r>
            <a:r>
              <a:rPr b="1" i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within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 the content or </a:t>
            </a:r>
            <a:r>
              <a:rPr b="1" i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among</a:t>
            </a:r>
            <a:r>
              <a:rPr b="1" lang="en-US" sz="2800" spc="-1" strike="noStrike">
                <a:solidFill>
                  <a:srgbClr val="ff7c80"/>
                </a:solidFill>
                <a:latin typeface="Arial"/>
                <a:ea typeface="Times New Roman"/>
              </a:rPr>
              <a:t> content areas—and have to select or devise one approach among many alternatives on how the situation can be sol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ue to the complexity of cognitive demand, DOK 4  often requires an extended period of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EC5F-E643-4CFA-B95B-C98D7BD6D9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580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wever, extended time alone is not the distinguishing fa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828800"/>
          <a:ext cx="7696080" cy="4829040"/>
        </p:xfrm>
        <a:graphic>
          <a:graphicData uri="http://schemas.openxmlformats.org/drawingml/2006/table">
            <a:tbl>
              <a:tblPr/>
              <a:tblGrid>
                <a:gridCol w="5562720"/>
                <a:gridCol w="213336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i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llecting data samples over several mont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c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rganizing the data in a cha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kills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oncep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Using this chart to make and justify predi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trateg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hi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eveloping a generalized model from this data and applying it to a new situ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xten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hi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8F0D-D069-43AC-A587-4452B9217B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ended Reasoning/Thinking Examples:  Level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her, analyze, organize, and interpret information from multiple (print and non print) sources to draft a reasoned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ing author’s craft (e.g., style, bias, literary techniques, point of vie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n exercise plan applying the “FITT (Frequency, Intensity, Time, Type) Principl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D22-0025-456F-8190-427878FE6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ended Reasoning/Thinking Examples: Level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 and explain multiple perspectives or issues within or across time periods, events, or cul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y a problem, identify solution paths, solve the problem, and report the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nd produce an original 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pth of Knowledge is 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d by the verb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e context in which the verb is used and the depth of thinking requi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A575-7EE9-4670-A0EE-CFA90DA71A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38080" y="304920"/>
            <a:ext cx="777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OK 3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scri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model that you might use to represent the relationships that exist within the rock cycl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Tahoma"/>
                <a:ea typeface="Times New Roman"/>
              </a:rPr>
              <a:t>(requires deep understanding of rock cycle and a determination of how best to represent i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OK 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scri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 difference between metamorphic and igneous rock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Tahoma"/>
                <a:ea typeface="Times New Roman"/>
              </a:rPr>
              <a:t>(requires cognitive processing to determine the differences in the two rock typ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OK 1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escri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ee characteristics of metamorphic rock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Tahoma"/>
                <a:ea typeface="Times New Roman"/>
              </a:rPr>
              <a:t>(simple recal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514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c507"/>
                </a:solidFill>
                <a:latin typeface="Tahoma"/>
              </a:rPr>
              <a:t>Same verb—three DOK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s can be cumula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tem/standard written to DOK 3 often contains DOK 1 and DOK 2 level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E636-A9AE-4DB4-B1B7-B4484C217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ing DOK:  Science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Group 46"/>
          <p:cNvGrpSpPr/>
          <p:nvPr/>
        </p:nvGrpSpPr>
        <p:grpSpPr>
          <a:xfrm>
            <a:off x="685800" y="1600200"/>
            <a:ext cx="4266720" cy="4797360"/>
            <a:chOff x="685800" y="1600200"/>
            <a:chExt cx="4266720" cy="4797360"/>
          </a:xfrm>
        </p:grpSpPr>
        <p:grpSp>
          <p:nvGrpSpPr>
            <p:cNvPr id="141" name="Group 17"/>
            <p:cNvGrpSpPr/>
            <p:nvPr/>
          </p:nvGrpSpPr>
          <p:grpSpPr>
            <a:xfrm>
              <a:off x="685800" y="1600200"/>
              <a:ext cx="4266720" cy="838080"/>
              <a:chOff x="685800" y="1600200"/>
              <a:chExt cx="4266720" cy="83808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804600" y="1600200"/>
                <a:ext cx="402912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ample Science Assessment Limi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(based on Webb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Rectangle 16"/>
              <p:cNvSpPr/>
              <p:nvPr/>
            </p:nvSpPr>
            <p:spPr>
              <a:xfrm>
                <a:off x="685800" y="1600200"/>
                <a:ext cx="4266720" cy="83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23"/>
            <p:cNvGrpSpPr/>
            <p:nvPr/>
          </p:nvGrpSpPr>
          <p:grpSpPr>
            <a:xfrm>
              <a:off x="685800" y="2438280"/>
              <a:ext cx="4266720" cy="746280"/>
              <a:chOff x="685800" y="2438280"/>
              <a:chExt cx="4266720" cy="746280"/>
            </a:xfrm>
          </p:grpSpPr>
          <p:sp>
            <p:nvSpPr>
              <p:cNvPr id="145" name="Rectangle 7"/>
              <p:cNvSpPr/>
              <p:nvPr/>
            </p:nvSpPr>
            <p:spPr>
              <a:xfrm>
                <a:off x="804600" y="2438280"/>
                <a:ext cx="40291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Example A: Perform a simple science process or a set procedure to gather data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>
                <a:off x="685800" y="2438280"/>
                <a:ext cx="4266720" cy="74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29"/>
            <p:cNvGrpSpPr/>
            <p:nvPr/>
          </p:nvGrpSpPr>
          <p:grpSpPr>
            <a:xfrm>
              <a:off x="685800" y="3184560"/>
              <a:ext cx="4266720" cy="1174680"/>
              <a:chOff x="685800" y="3184560"/>
              <a:chExt cx="4266720" cy="1174680"/>
            </a:xfrm>
          </p:grpSpPr>
          <p:sp>
            <p:nvSpPr>
              <p:cNvPr id="148" name="Rectangle 10"/>
              <p:cNvSpPr/>
              <p:nvPr/>
            </p:nvSpPr>
            <p:spPr>
              <a:xfrm>
                <a:off x="804600" y="3184560"/>
                <a:ext cx="402912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Example B: Represent data collected over a period time, making comparisons and interpretation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Rectangle 28"/>
              <p:cNvSpPr/>
              <p:nvPr/>
            </p:nvSpPr>
            <p:spPr>
              <a:xfrm>
                <a:off x="685800" y="3184560"/>
                <a:ext cx="4266720" cy="11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0" name="Group 35"/>
            <p:cNvGrpSpPr/>
            <p:nvPr/>
          </p:nvGrpSpPr>
          <p:grpSpPr>
            <a:xfrm>
              <a:off x="685800" y="4359240"/>
              <a:ext cx="4266720" cy="2038320"/>
              <a:chOff x="685800" y="4359240"/>
              <a:chExt cx="4266720" cy="2038320"/>
            </a:xfrm>
          </p:grpSpPr>
          <p:sp>
            <p:nvSpPr>
              <p:cNvPr id="151" name="Rectangle 13"/>
              <p:cNvSpPr/>
              <p:nvPr/>
            </p:nvSpPr>
            <p:spPr>
              <a:xfrm>
                <a:off x="804600" y="4359240"/>
                <a:ext cx="4029120" cy="20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Example C: Interpret data collected for a research question for a scientific problem related to your environment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49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Rectangle 34"/>
              <p:cNvSpPr/>
              <p:nvPr/>
            </p:nvSpPr>
            <p:spPr>
              <a:xfrm>
                <a:off x="685800" y="4359240"/>
                <a:ext cx="4266720" cy="203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53" name="Group 47"/>
          <p:cNvGrpSpPr/>
          <p:nvPr/>
        </p:nvGrpSpPr>
        <p:grpSpPr>
          <a:xfrm>
            <a:off x="4952880" y="1600200"/>
            <a:ext cx="914040" cy="4797360"/>
            <a:chOff x="4952880" y="1600200"/>
            <a:chExt cx="914040" cy="4797360"/>
          </a:xfrm>
        </p:grpSpPr>
        <p:grpSp>
          <p:nvGrpSpPr>
            <p:cNvPr id="154" name="Group 19"/>
            <p:cNvGrpSpPr/>
            <p:nvPr/>
          </p:nvGrpSpPr>
          <p:grpSpPr>
            <a:xfrm>
              <a:off x="4952880" y="1600200"/>
              <a:ext cx="914040" cy="838080"/>
              <a:chOff x="4952880" y="1600200"/>
              <a:chExt cx="914040" cy="838080"/>
            </a:xfrm>
          </p:grpSpPr>
          <p:sp>
            <p:nvSpPr>
              <p:cNvPr id="155" name="Rectangle 5"/>
              <p:cNvSpPr/>
              <p:nvPr/>
            </p:nvSpPr>
            <p:spPr>
              <a:xfrm>
                <a:off x="5062680" y="1600200"/>
                <a:ext cx="6940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DOK Ceiling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Level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Rectangle 18"/>
              <p:cNvSpPr/>
              <p:nvPr/>
            </p:nvSpPr>
            <p:spPr>
              <a:xfrm>
                <a:off x="4952880" y="1600200"/>
                <a:ext cx="914040" cy="83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7" name="Group 25"/>
            <p:cNvGrpSpPr/>
            <p:nvPr/>
          </p:nvGrpSpPr>
          <p:grpSpPr>
            <a:xfrm>
              <a:off x="4952880" y="2438280"/>
              <a:ext cx="914040" cy="746280"/>
              <a:chOff x="4952880" y="2438280"/>
              <a:chExt cx="914040" cy="746280"/>
            </a:xfrm>
          </p:grpSpPr>
          <p:sp>
            <p:nvSpPr>
              <p:cNvPr id="158" name="Rectangle 8"/>
              <p:cNvSpPr/>
              <p:nvPr/>
            </p:nvSpPr>
            <p:spPr>
              <a:xfrm>
                <a:off x="5062680" y="2438280"/>
                <a:ext cx="69408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Rectangle 24"/>
              <p:cNvSpPr/>
              <p:nvPr/>
            </p:nvSpPr>
            <p:spPr>
              <a:xfrm>
                <a:off x="4952880" y="2438280"/>
                <a:ext cx="914040" cy="74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31"/>
            <p:cNvGrpSpPr/>
            <p:nvPr/>
          </p:nvGrpSpPr>
          <p:grpSpPr>
            <a:xfrm>
              <a:off x="4952880" y="3184560"/>
              <a:ext cx="914040" cy="1174680"/>
              <a:chOff x="4952880" y="3184560"/>
              <a:chExt cx="914040" cy="1174680"/>
            </a:xfrm>
          </p:grpSpPr>
          <p:sp>
            <p:nvSpPr>
              <p:cNvPr id="161" name="Rectangle 11"/>
              <p:cNvSpPr/>
              <p:nvPr/>
            </p:nvSpPr>
            <p:spPr>
              <a:xfrm>
                <a:off x="5062680" y="3184560"/>
                <a:ext cx="69408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Rectangle 30"/>
              <p:cNvSpPr/>
              <p:nvPr/>
            </p:nvSpPr>
            <p:spPr>
              <a:xfrm>
                <a:off x="4952880" y="3184560"/>
                <a:ext cx="914040" cy="1174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37"/>
            <p:cNvGrpSpPr/>
            <p:nvPr/>
          </p:nvGrpSpPr>
          <p:grpSpPr>
            <a:xfrm>
              <a:off x="4952880" y="4359240"/>
              <a:ext cx="914040" cy="2038320"/>
              <a:chOff x="4952880" y="4359240"/>
              <a:chExt cx="914040" cy="2038320"/>
            </a:xfrm>
          </p:grpSpPr>
          <p:sp>
            <p:nvSpPr>
              <p:cNvPr id="164" name="Rectangle 14"/>
              <p:cNvSpPr/>
              <p:nvPr/>
            </p:nvSpPr>
            <p:spPr>
              <a:xfrm>
                <a:off x="5062680" y="4359240"/>
                <a:ext cx="694080" cy="20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4952880" y="4359240"/>
                <a:ext cx="914040" cy="203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6" name="Group 21"/>
          <p:cNvGrpSpPr/>
          <p:nvPr/>
        </p:nvGrpSpPr>
        <p:grpSpPr>
          <a:xfrm>
            <a:off x="5867280" y="1600200"/>
            <a:ext cx="2806200" cy="838080"/>
            <a:chOff x="5867280" y="1600200"/>
            <a:chExt cx="2806200" cy="838080"/>
          </a:xfrm>
        </p:grpSpPr>
        <p:sp>
          <p:nvSpPr>
            <p:cNvPr id="167" name="Rectangle 6"/>
            <p:cNvSpPr/>
            <p:nvPr/>
          </p:nvSpPr>
          <p:spPr>
            <a:xfrm>
              <a:off x="6034680" y="1600200"/>
              <a:ext cx="2471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5228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otential DOK Level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or Assessment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20"/>
            <p:cNvSpPr/>
            <p:nvPr/>
          </p:nvSpPr>
          <p:spPr>
            <a:xfrm>
              <a:off x="5867280" y="1600200"/>
              <a:ext cx="2806200" cy="838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5867280" y="2438280"/>
            <a:ext cx="2806200" cy="746280"/>
            <a:chOff x="5867280" y="2438280"/>
            <a:chExt cx="2806200" cy="746280"/>
          </a:xfrm>
        </p:grpSpPr>
        <p:sp>
          <p:nvSpPr>
            <p:cNvPr id="170" name="Rectangle 9"/>
            <p:cNvSpPr/>
            <p:nvPr/>
          </p:nvSpPr>
          <p:spPr>
            <a:xfrm>
              <a:off x="6034680" y="2438280"/>
              <a:ext cx="24714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 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(Measure temperature of  water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26"/>
            <p:cNvSpPr/>
            <p:nvPr/>
          </p:nvSpPr>
          <p:spPr>
            <a:xfrm>
              <a:off x="5867280" y="2438280"/>
              <a:ext cx="2806200" cy="74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Rectangle 12"/>
          <p:cNvSpPr/>
          <p:nvPr/>
        </p:nvSpPr>
        <p:spPr>
          <a:xfrm>
            <a:off x="5867280" y="3184560"/>
            <a:ext cx="281952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Measure temperature of  water at different times/plac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Construct a graph to organize, display, and compare dat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5867280" y="3184560"/>
            <a:ext cx="2806920" cy="11746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5867280" y="4359240"/>
            <a:ext cx="28195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Measure temperature of  water at different times/plac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Construct a graph to organize, display, and compare dat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Design an investigation to explain the affect of varying temperatures of the river in different locati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5867280" y="4359240"/>
            <a:ext cx="2806920" cy="20383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73D7-1217-4FF2-B830-1FFD3F7D6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602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emb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1752480"/>
            <a:ext cx="7619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th of Knowledge (DOK) is a scale of cognitive de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K requires looking at the assessment item/standard-</a:t>
            </a:r>
            <a:r>
              <a:rPr b="0" lang="en-US" sz="2400" spc="-1" strike="noStrike">
                <a:solidFill>
                  <a:srgbClr val="ff7c80"/>
                </a:solidFill>
                <a:latin typeface="Tahoma"/>
              </a:rPr>
              <a:t>not student 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n order to determine the level. DOK is about the item/standard-</a:t>
            </a:r>
            <a:r>
              <a:rPr b="0" lang="en-US" sz="2400" spc="-1" strike="noStrike">
                <a:solidFill>
                  <a:srgbClr val="ff7c80"/>
                </a:solidFill>
                <a:latin typeface="Tahoma"/>
              </a:rPr>
              <a:t>not the stu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text of the assessment item/standard must be considered to determine the DOK-not just a look at what verb was chos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0CCB-B0AA-46FE-A3DE-225B4D51E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epth of Knowled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to ensure that the intent of the standard and the level of student demonstration required by that standard matches the assessment items (required under NCLB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cognitive processing ceiling </a:t>
            </a:r>
            <a:r>
              <a:rPr b="0" lang="en-US" sz="2800" spc="-1" strike="noStrike">
                <a:solidFill>
                  <a:srgbClr val="ff7c80"/>
                </a:solidFill>
                <a:latin typeface="Tahoma"/>
              </a:rPr>
              <a:t>(highest level students can be assessed) for i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8F0-5059-4355-B48F-B534FA006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7800" y="326880"/>
            <a:ext cx="6253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th of Knowled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9220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b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Depth of Knowledge level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all and Reproduction:   Level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kills &amp; Concepts:               Level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ategic Thinking:             Level 3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246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tended Thinking:            Level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D5B6-0CC4-4D7D-BDC5-DDEF8BC93A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call and Reproduction:  Level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78"/>
          <p:cNvSpPr/>
          <p:nvPr/>
        </p:nvSpPr>
        <p:spPr>
          <a:xfrm>
            <a:off x="533520" y="1219320"/>
            <a:ext cx="739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9"/>
          <p:cNvSpPr/>
          <p:nvPr/>
        </p:nvSpPr>
        <p:spPr>
          <a:xfrm>
            <a:off x="762120" y="1752480"/>
            <a:ext cx="7619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K 1 requires recall of information, such as a fact, definition, term, or performance of a simple process or proced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swering a Level 1 item can involve following a simple, well-known procedure or formula. Simple skills and abilities or recall characterize DOK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DFFE-E070-4B8B-8F6F-EE8CCF26A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1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ist animals that survive by eating other anim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or recall facts explicitly found in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physical features of pla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the perimeter or area of rectangles given a drawing or la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elements of music using musical termin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basic rules for participating in simple games and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EE6-7B9E-4BDE-A164-7B676FC6E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kills/Concepts:  Level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1600200"/>
            <a:ext cx="79250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K 2 includes the engagement of some mental processing beyond recalling or reproducing a response. Items require students to make some decisions as to how to approach the question or probl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ctions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imply more than one </a:t>
            </a:r>
            <a:r>
              <a:rPr b="1" lang="en-US" sz="3200" spc="-1" strike="noStrike" u="sng">
                <a:solidFill>
                  <a:srgbClr val="ff7c80"/>
                </a:solidFill>
                <a:uFillTx/>
                <a:latin typeface="Arial"/>
                <a:ea typeface="Times New Roman"/>
              </a:rPr>
              <a:t>mental or cognitive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 process/st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AF9F-6820-40F0-92B6-08E35EA839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2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re desert and tropical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nd summarize the major events, problem, solution, conflicts in literary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cause-effect of historical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ct a logical outcome based on information in a reading se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good work habits are important at home, school, and on the jo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y plane and three dimensional fig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various styles of mu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62F-101B-484C-9DAB-68F132A6A2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rategic Thinking:  Level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1523880"/>
            <a:ext cx="83055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K 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deep understanding as exhibited through planning, using evidence, and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more demanding </a:t>
            </a:r>
            <a:r>
              <a:rPr b="1" lang="en-US" sz="3200" spc="-1" strike="noStrike" u="sng">
                <a:solidFill>
                  <a:srgbClr val="ff7c80"/>
                </a:solidFill>
                <a:uFillTx/>
                <a:latin typeface="Arial"/>
                <a:ea typeface="Times New Roman"/>
              </a:rPr>
              <a:t>cognitive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 reason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The cognitive demands at Level 3 are complex and abstra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 assessment item that has more than one possible answer and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  <a:ea typeface="Times New Roman"/>
              </a:rPr>
              <a:t>requires students to justify the response they g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would most likely be a Level 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49D1-DA40-4A03-855A-1B1D38E89C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K Level 3 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 consumer actions and analyze how these actions impact th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 or evaluate the effectiveness of literary elements (e.g. characterization, setting, point of view, conflict and resolution, plot structu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 a multiple-step problem and provide support with a mathematical explanation that justifies the ans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5:08:05Z</dcterms:created>
  <dc:creator>Mike Dodson</dc:creator>
  <dc:description/>
  <dc:language>en-US</dc:language>
  <cp:lastModifiedBy>Donna DeCurtis</cp:lastModifiedBy>
  <dcterms:modified xsi:type="dcterms:W3CDTF">2010-06-30T12:50:53Z</dcterms:modified>
  <cp:revision>187</cp:revision>
  <dc:subject/>
  <dc:title>Construction Guy</dc:title>
</cp:coreProperties>
</file>